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421-943E-4277-81E1-764CDE85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37B-EC38-41F1-B4DB-947116C4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403-5E6F-490B-B9B9-997B1357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C77-E652-42E8-A7C1-AD40B20C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FB86-43B4-462A-9DDE-24C302C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CBAA-85D9-457A-9E18-1776BD40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A9B-CEEE-486A-8B48-0A9666E1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E6E8-DA27-498A-9AC1-ECEC92E6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4F42-678C-435E-BB7D-F989143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C7AC-2337-452F-9D45-7492060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A5D5-FE26-48FD-960A-526D15A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A0C-9E65-4D1B-89B5-05B6115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7FD0-498D-4A8E-B6E4-2F8DDB0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B2A-DDE2-4039-A99D-E5E55FE8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A5DC-C70F-4441-9C77-6900046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6A03-800E-4030-B6B6-068B650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7A36-280C-419E-B27F-5ACB6BED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C12-3696-4566-B598-D196EA1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ED9-15EE-433B-B829-85B4788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BC6-2511-4154-AD22-3475D26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CC4-DAAC-4CC4-8AF0-BF80AFF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0A3-27F4-4DCA-B038-B243F55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470-FF8E-4C70-98A8-5B3BBAC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317-43C8-40DF-99B6-378749BF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65E-1390-45F2-9D1C-E8009365A0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2DD-1B55-4409-8DCF-9B4A97E24E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F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u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br>
              <a:rPr sz="8000"/>
            </a:b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W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e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n P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r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Crook and Flail"/>
          <p:cNvPicPr/>
          <p:nvPr/>
        </p:nvPicPr>
        <p:blipFill>
          <a:blip r:embed="rId1"/>
          <a:stretch/>
        </p:blipFill>
        <p:spPr>
          <a:xfrm>
            <a:off x="838080" y="25146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W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m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e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n P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r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urlz MT"/>
              </a:rPr>
              <a:t>Hatshepsut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Curlz MT"/>
              </a:rPr>
              <a:t>Cleopatr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Hatshepsu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386480" cy="44971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tshepsut was an 18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dynasty pharaoh w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as the daughter of Thutmose 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hen Thutmose I died, his son, Thutmose 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cceeded him and, as was the custom, 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arried his stepsister, Hatshepsu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en Thutmose II died, Hatshepsut  becam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utmose III’s regent and eventually appoint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self pharao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eopat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was not of true Egyptian lineage. She was descended from Macedonia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became pharaoh when she was 17 years old and ruled with her father, and then with her younger brother, Ptolemy XII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was called “Queen of the Nil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commited suicide in 30 B.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Pop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ho was Hatshepsut?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How many</a:t>
            </a: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dynasties were ther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What were the gaps of time in between the kingdoms lik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Who did the pharaohs turn to when they needed advic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9:15Z</dcterms:created>
  <dc:creator>Default</dc:creator>
  <dc:description/>
  <dc:language>en-US</dc:language>
  <cp:lastModifiedBy>Taylor O'Brien</cp:lastModifiedBy>
  <dcterms:modified xsi:type="dcterms:W3CDTF">2009-01-14T21:02:33Z</dcterms:modified>
  <cp:revision>9</cp:revision>
  <dc:subject/>
  <dc:title>Egyptian Pharaohs</dc:title>
</cp:coreProperties>
</file>